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move the slide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C6ACE-E58E-4B2C-A22B-CF15EE70948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1B29A-E297-4C53-A423-A7C1586209F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3D4B4-1091-4695-A9B6-AA84996F955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7F660-BA35-4A86-AABA-C372374E6FD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21444-7331-4581-9264-C9FE82AEE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9865B-B30B-4D86-A4E3-EFFD5D7DB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18A08-F9D0-439F-81C2-B5693CB60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AE7AD-4C32-49E5-86D8-D77763329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B6B30-F42B-4BBA-8BB8-92B38E2E3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659C2-724E-4FBA-9E85-1134EAE2D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B5D5B-65E8-40AA-AFB2-8C0C474DD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3DD20-F92E-4174-B38F-E7B83F3C7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1E24D-39D4-428B-BBA5-0A59C344E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93DC8-93C2-46E6-8138-593E34EFC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4486A-DBE8-4524-84B9-19952F6B6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DD165-6578-4449-80AD-7F14C55EB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83AAC-ADC1-4716-AFA5-1C3498792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49BFA-4AC7-41FB-9365-2FABF44CD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276AE-16D2-4C9C-9BEC-FB8B69B28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CA130-EF2C-4DDC-B187-EC83BC675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75E1C-5188-43A8-BECD-5026A0224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B1B535-E256-4B9B-917F-0A8E46CA1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6C6540-98BF-4CCF-85BF-49F85319D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D6ACA7-2B47-4892-93A9-D05DA7F17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3362D4-375D-4A3D-B818-1A6BCCBCB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A6A84E-5DD5-4907-A1A7-F8D7828DA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9BABE-7998-46F6-AD67-471E06405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ED7C15-7E37-40FF-846E-DCBA54013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EF5341-B344-4AED-94B6-E80E2FBB5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C6233F-F5D3-46F6-97E9-57013BACC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950DC4-D3DA-4413-B075-3B9489705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98C890-300B-4391-A341-D0491E4C3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39D5F3-AA08-4080-9D32-301A12134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5736E0-0709-4D9F-B019-A4DA7D21E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BEE744-6675-48FD-8F34-7333D1236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2D1011-D1B4-43C4-BF81-394B2727C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E3E0BD-5605-433A-A165-B78195444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27A6B-C99F-4C2C-8DDB-F5AEC4296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5C7A0F-C008-48B2-8F8D-999F6E461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25E2E8-A2C4-4DFB-B013-710BE906A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050416-DE6B-4D9F-887A-2A16D00E7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E3194D-CE75-49A0-A095-F78D8D367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002722-2294-419F-8F24-2170FB95E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EB2F91-0717-4FE8-BBBE-7C506F3DD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0F8EFA-3EEB-445C-8E3B-4D37EAAD7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39B7C2-2FFB-46B3-AAC4-1708DA94C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A2C524-00F9-44CA-A338-D180DBED7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DD8EC9-D723-41C2-BBCB-066EF98DB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5F7E4-195E-4E58-BFE0-C15C606B8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418174-61FC-4D7B-BFCE-F9599F060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065570-A128-4251-A893-AD7235527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2EC568-49C4-4FF6-BBCF-D448F533D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3FCB22-00F4-4CC7-90DF-5D6158C26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342682-4B97-4D94-B870-869BD890F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D7D5A1-3F47-44D1-ABCB-F4A7E35C9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616C55-2412-434E-9EB0-51DA6013E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23C0CD-28D6-42B1-95AF-CFFD927C5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BBABDE-0DC2-4602-A1D9-97FE2154B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197B64-FADC-4346-A57E-300A72B8A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6D273-F6E4-47C3-8131-684C6DDE7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B8781C-621E-4BED-BAAD-499617918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CBBC1B-3CAD-45D5-A523-08EE211B2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E0E7A0-356C-4844-82B7-0A3E164EF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E3CFC4-1F23-4A07-BEFA-744228118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B59741-0E87-4932-95C2-CA58746CC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03C6CD-C000-4ADA-898E-31B31AF33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73FAE9-16E0-4F2A-BBAB-A6AEB6354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964828-4C41-4816-89DB-09DC023B3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AF3805-5EA1-480D-8400-60318F5DD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1BC08D-5BAB-4ED9-BB96-7CFA4AB6F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D3691-DDFC-416A-A625-1E29B2435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973F1B-31F1-40EC-BF44-A18F1C78C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A135FC-DBCB-4BF3-B6CF-14D22663A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6D0C21-DEFD-4399-8AAB-4017D8454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F00AA8-B3C7-40E9-B1F4-9CC0A958A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848178-0215-4772-B934-0E6315E43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E74B0A-1382-4703-A9A0-B2DF76E05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DED97A-AC42-449D-861F-FB3D19EFB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7B9BD4-001C-4E1B-84AA-D6F488876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33956D-A4C8-4109-A8E8-7EAD28BE8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3C415A-A6F4-4BE1-AFFF-432257880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953AE-59E0-4B02-8136-1B8DD7752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FACFE7-65A1-4E47-AEF4-FADAB6955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762AF5-064B-4446-9D92-C6050DFFC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7247B8-1DE8-454B-8C98-531FED825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47D352-A7D0-45D4-B5C5-DFB3C18A5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923CBB-BDB8-4A83-A567-6CE0B46BE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05772-BA46-4774-8850-4781D761F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hthoek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hthoek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1896A-DACA-49C7-B4A0-18C9DA0B5E40}" type="slidenum">
              <a:rPr b="0" lang="nl-N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hthoek 8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hthoek 10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D514D-F026-435D-A151-A38AFE96DA7B}" type="slidenum">
              <a:rPr b="0" lang="nl-NL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hthoek 8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hthoek 10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64A8C-51C7-40DF-B071-F9300F8F4401}" type="slidenum">
              <a:rPr b="0" lang="nl-NL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A3D2B-6CDC-41C3-BAD3-E5800FB443CC}" type="slidenum">
              <a:rPr b="0" lang="nl-N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hthoek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hthoek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hthoek 8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hthoek 10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70D9D-AE1D-4A11-AE34-CF2AA2EA15CB}" type="slidenum">
              <a:rPr b="0" lang="nl-N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hthoek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hthoek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hthoek 8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hthoek 10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6207B-FDBB-470F-B915-2816F046A96C}" type="slidenum">
              <a:rPr b="0" lang="nl-N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hthoek 8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hthoek 10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CF91F-B370-4FE8-8576-EF7EB7C38B56}" type="slidenum">
              <a:rPr b="0" lang="nl-N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Titel 1" descr=""/>
          <p:cNvPicPr/>
          <p:nvPr/>
        </p:nvPicPr>
        <p:blipFill>
          <a:blip r:embed="rId1"/>
          <a:stretch/>
        </p:blipFill>
        <p:spPr>
          <a:xfrm>
            <a:off x="396720" y="3157560"/>
            <a:ext cx="8375760" cy="1878120"/>
          </a:xfrm>
          <a:prstGeom prst="rect">
            <a:avLst/>
          </a:prstGeom>
          <a:ln w="0">
            <a:noFill/>
          </a:ln>
        </p:spPr>
      </p:pic>
      <p:pic>
        <p:nvPicPr>
          <p:cNvPr id="311" name="Ondertitel 2" descr=""/>
          <p:cNvPicPr/>
          <p:nvPr/>
        </p:nvPicPr>
        <p:blipFill>
          <a:blip r:embed="rId2"/>
          <a:stretch/>
        </p:blipFill>
        <p:spPr>
          <a:xfrm>
            <a:off x="633240" y="1822320"/>
            <a:ext cx="8139240" cy="1517760"/>
          </a:xfrm>
          <a:prstGeom prst="rect">
            <a:avLst/>
          </a:prstGeom>
          <a:ln w="0">
            <a:noFill/>
          </a:ln>
        </p:spPr>
      </p:pic>
      <p:pic>
        <p:nvPicPr>
          <p:cNvPr id="312" name="Tekstvak 3" descr=""/>
          <p:cNvPicPr/>
          <p:nvPr/>
        </p:nvPicPr>
        <p:blipFill>
          <a:blip r:embed="rId3"/>
          <a:stretch/>
        </p:blipFill>
        <p:spPr>
          <a:xfrm>
            <a:off x="7291440" y="5241960"/>
            <a:ext cx="1779480" cy="153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Titel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14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15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rbel"/>
              </a:rPr>
              <a:t>CONSOR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5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rbel"/>
              </a:rPr>
              <a:t>GRESHI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150000"/>
              </a:lnSpc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rbel"/>
              </a:rPr>
              <a:t>The creation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150000"/>
              </a:lnSpc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rbel"/>
              </a:rPr>
              <a:t>Article of Han compared with GRESHI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rbel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Titel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16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3000"/>
          </a:bodyPr>
          <a:p>
            <a:pPr marL="407160" indent="-296280">
              <a:lnSpc>
                <a:spcPct val="15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rbel"/>
              </a:rPr>
              <a:t>Consolidated Standards of Reporting Trail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78960" indent="-253440">
              <a:lnSpc>
                <a:spcPct val="150000"/>
              </a:lnSpc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rbel"/>
              </a:rPr>
              <a:t>Provides a minimum set of guidelines for reporting trail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78960" indent="-253440">
              <a:lnSpc>
                <a:spcPct val="150000"/>
              </a:lnSpc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to alleviate the problems arising from inadequate reporting of RCT’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78960" indent="-253440">
              <a:lnSpc>
                <a:spcPct val="150000"/>
              </a:lnSpc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Consists of </a:t>
            </a:r>
            <a:r>
              <a:rPr b="1" lang="en-US" sz="2800" spc="-1" strike="noStrike">
                <a:solidFill>
                  <a:srgbClr val="60b5cc"/>
                </a:solidFill>
                <a:latin typeface="Corbel"/>
              </a:rPr>
              <a:t>22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 guidelines and flowchart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Titel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18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14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orbel"/>
              </a:rPr>
              <a:t>Specific guidelines for the MI setting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140000"/>
              </a:lnSpc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rbel"/>
              </a:rPr>
              <a:t>CONSORT is not sufficient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lnSpc>
                <a:spcPct val="140000"/>
              </a:lnSpc>
              <a:spcBef>
                <a:spcPts val="499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rbel"/>
              </a:rPr>
              <a:t>Not dedicated to the MI setting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lnSpc>
                <a:spcPct val="140000"/>
              </a:lnSpc>
              <a:spcBef>
                <a:spcPts val="499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rbel"/>
              </a:rPr>
              <a:t>Only for RCT’s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4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orbel"/>
              </a:rPr>
              <a:t>Guidelines for reporting evaluation studies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4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orbel"/>
              </a:rPr>
              <a:t>Consists of </a:t>
            </a:r>
            <a:r>
              <a:rPr b="1" lang="en-GB" sz="2700" spc="-1" strike="noStrike">
                <a:solidFill>
                  <a:srgbClr val="f0ad00"/>
                </a:solidFill>
                <a:latin typeface="Corbel"/>
              </a:rPr>
              <a:t>25</a:t>
            </a:r>
            <a:r>
              <a:rPr b="0" lang="en-GB" sz="2700" spc="-1" strike="noStrike">
                <a:solidFill>
                  <a:srgbClr val="000000"/>
                </a:solidFill>
                <a:latin typeface="Corbel"/>
              </a:rPr>
              <a:t> guidelines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140000"/>
              </a:lnSpc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rbel"/>
              </a:rPr>
              <a:t>Guideline number </a:t>
            </a:r>
            <a:r>
              <a:rPr b="1" lang="en-GB" sz="2400" spc="-1" strike="noStrike">
                <a:solidFill>
                  <a:srgbClr val="60b5cc"/>
                </a:solidFill>
                <a:latin typeface="Corbel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Corbel"/>
              </a:rPr>
              <a:t> to </a:t>
            </a:r>
            <a:r>
              <a:rPr b="1" lang="en-GB" sz="2400" spc="-1" strike="noStrike">
                <a:solidFill>
                  <a:srgbClr val="60b5cc"/>
                </a:solidFill>
                <a:latin typeface="Corbel"/>
              </a:rPr>
              <a:t>10</a:t>
            </a:r>
            <a:r>
              <a:rPr b="0" lang="en-GB" sz="2400" spc="-1" strike="noStrike">
                <a:solidFill>
                  <a:srgbClr val="000000"/>
                </a:solidFill>
                <a:latin typeface="Corbel"/>
              </a:rPr>
              <a:t> are of interest in this presentation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Titel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 txBox="1"/>
          <p:nvPr/>
        </p:nvSpPr>
        <p:spPr>
          <a:xfrm>
            <a:off x="457200" y="164268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4000"/>
          </a:bodyPr>
          <a:p>
            <a:pPr marL="411480" indent="-2995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0ad00"/>
                </a:solidFill>
                <a:latin typeface="Corbel"/>
              </a:rPr>
              <a:t>Title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11480" indent="-2995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1" lang="en-US" sz="1800" spc="-1" strike="noStrike">
                <a:solidFill>
                  <a:srgbClr val="60b5cc"/>
                </a:solidFill>
                <a:latin typeface="Corbel"/>
              </a:rPr>
              <a:t>[1] </a:t>
            </a: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Report the kind of evaluation study that has been performed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11480" indent="-2995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0ad00"/>
                </a:solidFill>
                <a:latin typeface="Corbel"/>
              </a:rPr>
              <a:t>Abstract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11480" indent="-2995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1" lang="en-US" sz="1800" spc="-1" strike="noStrike">
                <a:solidFill>
                  <a:srgbClr val="60b5cc"/>
                </a:solidFill>
                <a:latin typeface="Corbel"/>
              </a:rPr>
              <a:t>[2] </a:t>
            </a: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Summary of the entire paper; objective, methods, results and conclusion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11480" indent="-2995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1" lang="en-US" sz="1800" spc="-1" strike="noStrike">
                <a:solidFill>
                  <a:srgbClr val="60b5cc"/>
                </a:solidFill>
                <a:latin typeface="Corbel"/>
              </a:rPr>
              <a:t>[3]</a:t>
            </a: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 Keywords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11480" indent="-2995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0ad00"/>
                </a:solidFill>
                <a:latin typeface="Corbel"/>
              </a:rPr>
              <a:t>Introduction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11480" indent="-2995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1" lang="en-US" sz="1800" spc="-1" strike="noStrike">
                <a:solidFill>
                  <a:srgbClr val="60b5cc"/>
                </a:solidFill>
                <a:latin typeface="Corbel"/>
              </a:rPr>
              <a:t>[4] </a:t>
            </a: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Introduction of the Research area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11480" indent="-2995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1" lang="en-US" sz="1800" spc="-1" strike="noStrike">
                <a:solidFill>
                  <a:srgbClr val="60b5cc"/>
                </a:solidFill>
                <a:latin typeface="Corbel"/>
              </a:rPr>
              <a:t>[5] </a:t>
            </a: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State the reasons why the research has been conducted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11480" indent="-2995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1" lang="en-US" sz="1800" spc="-1" strike="noStrike">
                <a:solidFill>
                  <a:srgbClr val="60b5cc"/>
                </a:solidFill>
                <a:latin typeface="Corbel"/>
              </a:rPr>
              <a:t>[6] </a:t>
            </a: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Report the significance for the Medical Informatics area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11480" indent="-2995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1" lang="en-US" sz="1800" spc="-1" strike="noStrike">
                <a:solidFill>
                  <a:srgbClr val="60b5cc"/>
                </a:solidFill>
                <a:latin typeface="Corbel"/>
              </a:rPr>
              <a:t>[7] </a:t>
            </a:r>
            <a:r>
              <a:rPr b="1" lang="en-US" sz="1800" spc="-1" strike="noStrike">
                <a:solidFill>
                  <a:srgbClr val="60b5cc"/>
                </a:solidFill>
                <a:latin typeface="Corbel"/>
              </a:rPr>
              <a:t>	</a:t>
            </a:r>
            <a:r>
              <a:rPr b="1" lang="en-US" sz="1600" spc="-1" strike="noStrike">
                <a:solidFill>
                  <a:srgbClr val="e66c7d"/>
                </a:solidFill>
                <a:latin typeface="Corbel"/>
              </a:rPr>
              <a:t>A.</a:t>
            </a:r>
            <a:r>
              <a:rPr b="1" lang="en-US" sz="16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rbel"/>
              </a:rPr>
              <a:t>Describe the system/population/process/research (if any) </a:t>
            </a:r>
            <a:r>
              <a:rPr b="0" lang="en-US" sz="16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rbel"/>
              </a:rPr>
              <a:t>that </a:t>
            </a:r>
            <a:r>
              <a:rPr b="0" lang="en-US" sz="16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rbel"/>
              </a:rPr>
              <a:t>has been </a:t>
            </a:r>
            <a:r>
              <a:rPr b="0" lang="en-US" sz="16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rbel"/>
              </a:rPr>
              <a:t>evaluated, and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411480" indent="-2995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1" lang="en-US" sz="1600" spc="-1" strike="noStrike">
                <a:solidFill>
                  <a:srgbClr val="60b5cc"/>
                </a:solidFill>
                <a:latin typeface="Corbel"/>
              </a:rPr>
              <a:t>	</a:t>
            </a:r>
            <a:r>
              <a:rPr b="1" lang="en-US" sz="1600" spc="-1" strike="noStrike">
                <a:solidFill>
                  <a:srgbClr val="e66c7d"/>
                </a:solidFill>
                <a:latin typeface="Corbel"/>
              </a:rPr>
              <a:t>B.</a:t>
            </a:r>
            <a:r>
              <a:rPr b="1" lang="en-US" sz="16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rbel"/>
              </a:rPr>
              <a:t>the area in which the system/population/process/research </a:t>
            </a:r>
            <a:r>
              <a:rPr b="0" lang="en-US" sz="16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rbel"/>
              </a:rPr>
              <a:t>has </a:t>
            </a:r>
            <a:r>
              <a:rPr b="0" lang="en-US" sz="16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rbel"/>
              </a:rPr>
              <a:t>been </a:t>
            </a:r>
            <a:r>
              <a:rPr b="0" lang="en-US" sz="16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rbel"/>
              </a:rPr>
              <a:t>evaluated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411480" indent="-2995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1" lang="en-US" sz="1800" spc="-1" strike="noStrike">
                <a:solidFill>
                  <a:srgbClr val="60b5cc"/>
                </a:solidFill>
                <a:latin typeface="Corbel"/>
              </a:rPr>
              <a:t>[8]</a:t>
            </a: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 Describe – shortly – the choice of the evaluation study type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11480" indent="-2995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1" lang="en-US" sz="1800" spc="-1" strike="noStrike">
                <a:solidFill>
                  <a:srgbClr val="60b5cc"/>
                </a:solidFill>
                <a:latin typeface="Corbel"/>
              </a:rPr>
              <a:t>[9]</a:t>
            </a:r>
            <a:r>
              <a:rPr b="1" lang="en-US" sz="1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If necessary, provide a reader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Titel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22" name=""/>
          <p:cNvGraphicFramePr/>
          <p:nvPr/>
        </p:nvGraphicFramePr>
        <p:xfrm>
          <a:off x="214200" y="1571760"/>
          <a:ext cx="8669520" cy="4064040"/>
        </p:xfrm>
        <a:graphic>
          <a:graphicData uri="http://schemas.openxmlformats.org/drawingml/2006/table">
            <a:tbl>
              <a:tblPr/>
              <a:tblGrid>
                <a:gridCol w="2752920"/>
                <a:gridCol w="1616040"/>
                <a:gridCol w="2144520"/>
                <a:gridCol w="215604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c000"/>
                          </a:solidFill>
                          <a:latin typeface="Corbel"/>
                        </a:rPr>
                        <a:t>Guideli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0ad00"/>
                          </a:solidFill>
                          <a:latin typeface="Corbel"/>
                        </a:rPr>
                        <a:t>Complia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0ad00"/>
                          </a:solidFill>
                          <a:latin typeface="Corbel"/>
                        </a:rPr>
                        <a:t>Not complia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0ad00"/>
                          </a:solidFill>
                          <a:latin typeface="Corbel"/>
                        </a:rPr>
                        <a:t>Not applicab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Study report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d4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c00000"/>
                          </a:solidFill>
                          <a:latin typeface="Corbe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919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Summary of pap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b050"/>
                          </a:solidFill>
                          <a:latin typeface="Corbe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4e2c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b6b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Keywor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b050"/>
                          </a:solidFill>
                          <a:latin typeface="Corbe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d4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919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Introduction of are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b050"/>
                          </a:solidFill>
                          <a:latin typeface="Corbe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4e2c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b6b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Why research is conduct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b050"/>
                          </a:solidFill>
                          <a:latin typeface="Corbe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d4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919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Significance for M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b050"/>
                          </a:solidFill>
                          <a:latin typeface="Corbe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4e2c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b6b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Describe system &amp; are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b050"/>
                          </a:solidFill>
                          <a:latin typeface="Corbe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d4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919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Motivate study choi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4e2c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c00000"/>
                          </a:solidFill>
                          <a:latin typeface="Corbe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b6b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Provide read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d4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c00000"/>
                          </a:solidFill>
                          <a:latin typeface="Corbe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919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</a:tbl>
          </a:graphicData>
        </a:graphic>
      </p:graphicFrame>
      <p:sp>
        <p:nvSpPr>
          <p:cNvPr id="323" name="Tekstvak 4"/>
          <p:cNvSpPr/>
          <p:nvPr/>
        </p:nvSpPr>
        <p:spPr>
          <a:xfrm>
            <a:off x="214200" y="5786280"/>
            <a:ext cx="8643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rbel"/>
              </a:rPr>
              <a:t>Title –</a:t>
            </a:r>
            <a:r>
              <a:rPr b="0" lang="en-GB" sz="1800" spc="-1" strike="noStrike">
                <a:solidFill>
                  <a:srgbClr val="000000"/>
                </a:solidFill>
                <a:latin typeface="Corbel"/>
              </a:rPr>
              <a:t> guideline </a:t>
            </a:r>
            <a:r>
              <a:rPr b="1" lang="en-GB" sz="1800" spc="-1" strike="noStrike">
                <a:solidFill>
                  <a:srgbClr val="000000"/>
                </a:solidFill>
                <a:latin typeface="Corbe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rbel"/>
              </a:rPr>
              <a:t>Abstract – </a:t>
            </a:r>
            <a:r>
              <a:rPr b="0" lang="en-GB" sz="1800" spc="-1" strike="noStrike">
                <a:solidFill>
                  <a:srgbClr val="000000"/>
                </a:solidFill>
                <a:latin typeface="Corbel"/>
              </a:rPr>
              <a:t>guidelines </a:t>
            </a:r>
            <a:r>
              <a:rPr b="1" lang="en-GB" sz="1800" spc="-1" strike="noStrike">
                <a:solidFill>
                  <a:srgbClr val="000000"/>
                </a:solidFill>
                <a:latin typeface="Corbel"/>
              </a:rPr>
              <a:t>2</a:t>
            </a:r>
            <a:r>
              <a:rPr b="0" lang="en-GB" sz="1800" spc="-1" strike="noStrike">
                <a:solidFill>
                  <a:srgbClr val="000000"/>
                </a:solidFill>
                <a:latin typeface="Corbel"/>
              </a:rPr>
              <a:t> and </a:t>
            </a:r>
            <a:r>
              <a:rPr b="1" lang="en-GB" sz="1800" spc="-1" strike="noStrike">
                <a:solidFill>
                  <a:srgbClr val="000000"/>
                </a:solidFill>
                <a:latin typeface="Corbe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rbel"/>
              </a:rPr>
              <a:t>Introduction – </a:t>
            </a:r>
            <a:r>
              <a:rPr b="0" lang="en-GB" sz="1800" spc="-1" strike="noStrike">
                <a:solidFill>
                  <a:srgbClr val="000000"/>
                </a:solidFill>
                <a:latin typeface="Corbel"/>
              </a:rPr>
              <a:t>guidelines </a:t>
            </a:r>
            <a:r>
              <a:rPr b="1" lang="en-GB" sz="1800" spc="-1" strike="noStrike">
                <a:solidFill>
                  <a:srgbClr val="000000"/>
                </a:solidFill>
                <a:latin typeface="Corbel"/>
              </a:rPr>
              <a:t>4</a:t>
            </a:r>
            <a:r>
              <a:rPr b="0" lang="en-GB" sz="1800" spc="-1" strike="noStrike">
                <a:solidFill>
                  <a:srgbClr val="000000"/>
                </a:solidFill>
                <a:latin typeface="Corbel"/>
              </a:rPr>
              <a:t> up to </a:t>
            </a:r>
            <a:r>
              <a:rPr b="1" lang="en-GB" sz="1800" spc="-1" strike="noStrike">
                <a:solidFill>
                  <a:srgbClr val="000000"/>
                </a:solidFill>
                <a:latin typeface="Corbel"/>
              </a:rPr>
              <a:t>9</a:t>
            </a:r>
            <a:r>
              <a:rPr b="0" lang="en-GB" sz="1800" spc="-1" strike="noStrike">
                <a:solidFill>
                  <a:srgbClr val="000000"/>
                </a:solidFill>
                <a:latin typeface="Corbel"/>
              </a:rPr>
              <a:t> inclusi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Titel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2000"/>
          </a:bodyPr>
          <a:p>
            <a:pPr marL="402840" indent="-293400">
              <a:lnSpc>
                <a:spcPct val="15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rbel"/>
              </a:rPr>
              <a:t>Nice to think about creating guideline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71400" indent="-250920">
              <a:lnSpc>
                <a:spcPct val="150000"/>
              </a:lnSpc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rbel"/>
              </a:rPr>
              <a:t>CONSORT was not sufficient enough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02840" indent="-293400">
              <a:lnSpc>
                <a:spcPct val="15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rbel"/>
              </a:rPr>
              <a:t>Han is not fully compliant with our guideline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71400" indent="-250920">
              <a:lnSpc>
                <a:spcPct val="150000"/>
              </a:lnSpc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60b5cc"/>
                </a:solidFill>
                <a:latin typeface="Corbel"/>
              </a:rPr>
              <a:t>3</a:t>
            </a:r>
            <a:r>
              <a:rPr b="0" lang="en-GB" sz="2800" spc="-1" strike="noStrike">
                <a:solidFill>
                  <a:srgbClr val="000000"/>
                </a:solidFill>
                <a:latin typeface="Corbel"/>
              </a:rPr>
              <a:t> out of </a:t>
            </a:r>
            <a:r>
              <a:rPr b="1" lang="en-GB" sz="2800" spc="-1" strike="noStrike">
                <a:solidFill>
                  <a:srgbClr val="60b5cc"/>
                </a:solidFill>
                <a:latin typeface="Corbel"/>
              </a:rPr>
              <a:t>9</a:t>
            </a:r>
            <a:r>
              <a:rPr b="0" lang="en-GB" sz="2800" spc="-1" strike="noStrike">
                <a:solidFill>
                  <a:srgbClr val="000000"/>
                </a:solidFill>
                <a:latin typeface="Corbel"/>
              </a:rPr>
              <a:t> guidelines were not adhered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71400" indent="-250920">
              <a:lnSpc>
                <a:spcPct val="150000"/>
              </a:lnSpc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rbel"/>
              </a:rPr>
              <a:t>Overall: </a:t>
            </a:r>
            <a:r>
              <a:rPr b="1" lang="en-GB" sz="2800" spc="-1" strike="noStrike">
                <a:solidFill>
                  <a:srgbClr val="60b5cc"/>
                </a:solidFill>
                <a:latin typeface="Corbel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rbel"/>
              </a:rPr>
              <a:t> out of </a:t>
            </a:r>
            <a:r>
              <a:rPr b="1" lang="en-GB" sz="2800" spc="-1" strike="noStrike">
                <a:solidFill>
                  <a:srgbClr val="60b5cc"/>
                </a:solidFill>
                <a:latin typeface="Corbel"/>
              </a:rPr>
              <a:t>25</a:t>
            </a:r>
            <a:r>
              <a:rPr b="0" lang="en-GB" sz="2800" spc="-1" strike="noStrike">
                <a:solidFill>
                  <a:srgbClr val="000000"/>
                </a:solidFill>
                <a:latin typeface="Corbel"/>
              </a:rPr>
              <a:t> guidelines were not adhered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71400" indent="-250920">
              <a:lnSpc>
                <a:spcPct val="150000"/>
              </a:lnSpc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02840" indent="-293400">
              <a:lnSpc>
                <a:spcPct val="15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Titel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2" descr="C:\Documents and Settings\Yurij Stanngrad\Local Settings\Temporary Internet Files\Content.IE5\2DUFN1ZX\MPj04018280000[1].jpg"/>
          <p:cNvPicPr/>
          <p:nvPr/>
        </p:nvPicPr>
        <p:blipFill>
          <a:blip r:embed="rId2"/>
          <a:srcRect l="0" t="0" r="0" b="38247"/>
          <a:stretch/>
        </p:blipFill>
        <p:spPr>
          <a:xfrm>
            <a:off x="0" y="1500120"/>
            <a:ext cx="9144000" cy="53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4T11:19:21Z</dcterms:created>
  <dc:creator>de Groot</dc:creator>
  <dc:description/>
  <dc:language>en-US</dc:language>
  <cp:lastModifiedBy>de Groot</cp:lastModifiedBy>
  <dcterms:modified xsi:type="dcterms:W3CDTF">2008-02-14T19:36:54Z</dcterms:modified>
  <cp:revision>35</cp:revision>
  <dc:subject/>
  <dc:title>GRESHI</dc:title>
</cp:coreProperties>
</file>