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FBA5-785F-43BB-8A27-724A5EA561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4A36-AA9F-4705-AD42-353DF23B53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191A-0979-45D4-8C05-FA4C4D87EA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7F93-4EE1-4096-9C97-1A2796DE93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7D2D-0F7E-42A1-B71E-BEEBCEDE3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6A37-4B6D-401D-BC42-FD7A6B68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3ABE-B833-4122-B97C-B4AF97677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920C-E8B5-45E6-92B2-E7BF7D71D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DCBC-D0A0-43E4-B32E-2B88DF6A2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48B4-62CF-4083-9D18-D0CC6303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0F3D-D1ED-4EEA-82B8-B4E41042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0C15-5788-402C-8F22-428889D1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D783A-02D9-44B4-B6BA-9015F14D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10E1-F5B0-46BF-80D1-53ABE230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1EBE-F49E-4BA8-B032-49AB8B60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57B7-1424-4BDA-AAAE-1F7F8162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9244D-B91B-453C-A383-58BC1572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2142-A048-4417-BCB3-214087F8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66E9-2FF5-4072-B3AF-9470593F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0B3D-783B-4E51-B61A-16070FCB3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7AB4-AF0A-4996-942F-F4FB1FCF1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172F9-A478-4B65-89E8-4DFA04BF6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ECF28-B406-48AC-B2AE-CB924481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7F000-AD10-4905-A1B4-318F92EE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FF2CB-11FD-487A-935F-F68927A7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01B22-E554-41AA-917C-4A405138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4EE7-7285-4B10-8925-C598929D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D0F0A-3FC7-4927-B940-88447BC9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FDAC1-8270-4932-8528-182F5C7C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D32F3-8476-4C23-A913-0D96F51A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1C8EF-8E6A-48C2-B554-61E07929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BB0DC-F06E-4728-A620-02567C55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458E8-05F3-4C5D-A0C5-E8041232D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39E29-304E-4206-8AAC-77F42C6A1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81D3D-753C-4EA2-A1BC-FC76533CC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E9C33-E69B-4893-B6F4-ED7A41DB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7F874-7A83-4FB8-B01D-45F0D9D2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2B83-8962-4087-A776-F3BADC78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C00DA-BE0B-4AB7-88D2-469C3A01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D2BEC-F3BA-4ECE-8019-BAF7D578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E631E-CDA4-4EBC-BAFF-FCEC8D9E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F30D9-A96E-4B7A-8EA6-2E016DD9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B745D-840C-432D-BFAC-5E45665E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653DF-6B24-4BA2-A67F-C4A88370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A6BCE-63D5-4CCA-BE5B-F1CD4868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F3864-84F6-4A27-B972-7C4DA57C7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1483A-B4DE-4976-987B-141A63D36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3D509-854D-4FCE-9E93-68DB97816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D6E3-3EF5-4703-BFA7-D7369136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FA968-BE25-41AD-B33F-12D605D5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B3A0D-C750-4C2E-B5BB-33166AA8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EE31A-B4E7-4CCD-9A4A-D82A1D0A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39242-2928-4919-81FF-40893A25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6ED0D-650B-4F69-8394-CAF5E326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2354C-C1BF-4104-955C-280F0997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E4E4C-E214-458F-9D70-71DD2335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AE2B0-5A18-4DDA-85E5-0582C71D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13CA4-8836-4061-B3B4-0DE3E0C8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89BFB-A980-4738-B9F4-6ADEFD5BC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8AD0-1608-4C62-B836-D010BADA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EA75E-D1E1-4F26-9D5E-9BFC583F0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D5BEF-D6CE-4EC6-9E21-77E0B751C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D5A6D-20D9-41EA-834E-0BC6F10B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1A15B-4677-45A4-926A-0D2F6F9E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E38BF-7A6B-4017-948A-1E1F3CA4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3F6B8-B3DF-4C3A-80AC-B2600F89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A3610-BE24-4CCA-8801-89AA48A4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61972-0157-4CC2-B588-1B6B35F0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94BD5-D80B-45C6-B3B9-7C12219C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0FF24-7BFB-4AB1-B612-5355BD95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3856-3369-44B8-92B3-D3F8E7C9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0FA6C-92A3-4DDD-9F6F-6E597482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422A2-F8B9-4136-AB9A-436AF57E2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BF770-3911-481C-9BB2-A38E8A269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50AC2-528A-4B88-9DAC-059754C90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16B02-D568-421E-A15E-FFCDF3FE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BE375-AE3F-40FD-8292-75CF0D0F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5D13E-7829-4CDE-8E39-80809892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63EFB-535A-46E2-8F59-0F94B3CC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C9F50-185D-4BC6-ABFC-E69DFA79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2D12A-0412-406F-BD58-F8B0E9B8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FB08-E27E-4171-8706-86893A63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476E6-9B82-4C99-B84C-F3D17BA5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B2C8D-0330-4FF3-9E4A-2A700F69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10B40-51CC-4CDA-B547-BB0D4400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3C8EA-45A8-4A2D-9EBF-2A634B87D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FD2F5-A730-431A-A22A-5694744BB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6C19-DB05-4B97-8080-0BA5DF97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hoek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hthoe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D4D1-297F-42DB-B3B4-E6C43A89E511}" type="slidenum">
              <a:rPr b="0" lang="nl-N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hthoek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hthoek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B4E4-23B5-49CD-9CD9-B81519AFDE88}" type="slidenum">
              <a:rPr b="0" lang="nl-NL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hthoek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hthoek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6950-B231-4695-93DD-D70BA72F590E}" type="slidenum">
              <a:rPr b="0" lang="nl-NL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2FC0-B46E-4F75-8758-6C9365B68F13}" type="slidenum">
              <a:rPr b="0" lang="nl-N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hthoek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hthoe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hthoek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hthoek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9E28-3C6D-404D-BC9D-5EB3177A249A}" type="slidenum">
              <a:rPr b="0" lang="nl-N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hthoek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hthoe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hthoek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hthoek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FF1C-6F43-4512-885E-55E00DE9BC02}" type="slidenum">
              <a:rPr b="0" lang="nl-N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hthoek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hthoek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A9F8-CCF1-4C43-A364-71FABD648F6E}" type="slidenum">
              <a:rPr b="0" lang="nl-N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el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pic>
        <p:nvPicPr>
          <p:cNvPr id="311" name="Ondertitel 2" descr=""/>
          <p:cNvPicPr/>
          <p:nvPr/>
        </p:nvPicPr>
        <p:blipFill>
          <a:blip r:embed="rId2"/>
          <a:stretch/>
        </p:blipFill>
        <p:spPr>
          <a:xfrm>
            <a:off x="633240" y="1822320"/>
            <a:ext cx="8139240" cy="1517760"/>
          </a:xfrm>
          <a:prstGeom prst="rect">
            <a:avLst/>
          </a:prstGeom>
          <a:ln w="0">
            <a:noFill/>
          </a:ln>
        </p:spPr>
      </p:pic>
      <p:pic>
        <p:nvPicPr>
          <p:cNvPr id="312" name="Tekstvak 3" descr=""/>
          <p:cNvPicPr/>
          <p:nvPr/>
        </p:nvPicPr>
        <p:blipFill>
          <a:blip r:embed="rId3"/>
          <a:stretch/>
        </p:blipFill>
        <p:spPr>
          <a:xfrm>
            <a:off x="7291440" y="5241960"/>
            <a:ext cx="177948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el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CONSOR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GRESHI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5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The crea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5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Article of Han compared with GRESHI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el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Consolidated Standards of Reporting Trai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15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Provides a minimum set of guidelines for reporting trail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15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o alleviate the problems arising from inadequate reporting of RCT’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15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nsists of </a:t>
            </a:r>
            <a:r>
              <a:rPr b="1" lang="en-US" sz="2800" spc="-1" strike="noStrike">
                <a:solidFill>
                  <a:srgbClr val="60b5cc"/>
                </a:solidFill>
                <a:latin typeface="Corbel"/>
              </a:rPr>
              <a:t>22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guidelines and flowchar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el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4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rbel"/>
              </a:rPr>
              <a:t>Specific guidelines for the MI setting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4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rbel"/>
              </a:rPr>
              <a:t>CONSORT is not sufficien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140000"/>
              </a:lnSpc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rbel"/>
              </a:rPr>
              <a:t>Not dedicated to the MI setting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140000"/>
              </a:lnSpc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rbel"/>
              </a:rPr>
              <a:t>Only for RCT’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4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rbel"/>
              </a:rPr>
              <a:t>Guidelines for reporting evaluation studies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4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rbel"/>
              </a:rPr>
              <a:t>Consists of </a:t>
            </a:r>
            <a:r>
              <a:rPr b="1" lang="en-GB" sz="2700" spc="-1" strike="noStrike">
                <a:solidFill>
                  <a:srgbClr val="f0ad00"/>
                </a:solidFill>
                <a:latin typeface="Corbel"/>
              </a:rPr>
              <a:t>25</a:t>
            </a:r>
            <a:r>
              <a:rPr b="0" lang="en-GB" sz="2700" spc="-1" strike="noStrike">
                <a:solidFill>
                  <a:srgbClr val="000000"/>
                </a:solidFill>
                <a:latin typeface="Corbel"/>
              </a:rPr>
              <a:t> guidelines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4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rbel"/>
              </a:rPr>
              <a:t>Guideline number </a:t>
            </a:r>
            <a:r>
              <a:rPr b="1" lang="en-GB" sz="2400" spc="-1" strike="noStrike">
                <a:solidFill>
                  <a:srgbClr val="60b5cc"/>
                </a:solidFill>
                <a:latin typeface="Corbe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rbel"/>
              </a:rPr>
              <a:t> to </a:t>
            </a:r>
            <a:r>
              <a:rPr b="1" lang="en-GB" sz="2400" spc="-1" strike="noStrike">
                <a:solidFill>
                  <a:srgbClr val="60b5cc"/>
                </a:solidFill>
                <a:latin typeface="Corbel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rbel"/>
              </a:rPr>
              <a:t> are of interest in this presentat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el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64268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0ad00"/>
                </a:solidFill>
                <a:latin typeface="Corbe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1800" spc="-1" strike="noStrike">
                <a:solidFill>
                  <a:srgbClr val="60b5cc"/>
                </a:solidFill>
                <a:latin typeface="Corbel"/>
              </a:rPr>
              <a:t>[1]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Report the kind of evaluation study that has been performed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0ad00"/>
                </a:solidFill>
                <a:latin typeface="Corbel"/>
              </a:rPr>
              <a:t>Abstrac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1800" spc="-1" strike="noStrike">
                <a:solidFill>
                  <a:srgbClr val="60b5cc"/>
                </a:solidFill>
                <a:latin typeface="Corbel"/>
              </a:rPr>
              <a:t>[2]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Summary of the entire paper; objective, methods, results and conclus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1800" spc="-1" strike="noStrike">
                <a:solidFill>
                  <a:srgbClr val="60b5cc"/>
                </a:solidFill>
                <a:latin typeface="Corbel"/>
              </a:rPr>
              <a:t>[3]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 Keyword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0ad00"/>
                </a:solidFill>
                <a:latin typeface="Corbe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1800" spc="-1" strike="noStrike">
                <a:solidFill>
                  <a:srgbClr val="60b5cc"/>
                </a:solidFill>
                <a:latin typeface="Corbel"/>
              </a:rPr>
              <a:t>[4]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Introduction of the Research area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1800" spc="-1" strike="noStrike">
                <a:solidFill>
                  <a:srgbClr val="60b5cc"/>
                </a:solidFill>
                <a:latin typeface="Corbel"/>
              </a:rPr>
              <a:t>[5]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State the reasons why the research has been conducted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1800" spc="-1" strike="noStrike">
                <a:solidFill>
                  <a:srgbClr val="60b5cc"/>
                </a:solidFill>
                <a:latin typeface="Corbel"/>
              </a:rPr>
              <a:t>[6]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Report the significance for the Medical Informatics area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1800" spc="-1" strike="noStrike">
                <a:solidFill>
                  <a:srgbClr val="60b5cc"/>
                </a:solidFill>
                <a:latin typeface="Corbel"/>
              </a:rPr>
              <a:t>[7] </a:t>
            </a:r>
            <a:r>
              <a:rPr b="1" lang="en-US" sz="1800" spc="-1" strike="noStrike">
                <a:solidFill>
                  <a:srgbClr val="60b5cc"/>
                </a:solidFill>
                <a:latin typeface="Corbel"/>
              </a:rPr>
              <a:t>	</a:t>
            </a:r>
            <a:r>
              <a:rPr b="1" lang="en-US" sz="1600" spc="-1" strike="noStrike">
                <a:solidFill>
                  <a:srgbClr val="e66c7d"/>
                </a:solidFill>
                <a:latin typeface="Corbel"/>
              </a:rPr>
              <a:t>A.</a:t>
            </a: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Describe the system/population/process/research (if any) </a:t>
            </a: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that </a:t>
            </a: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has been </a:t>
            </a: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evaluated, and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1600" spc="-1" strike="noStrike">
                <a:solidFill>
                  <a:srgbClr val="60b5cc"/>
                </a:solidFill>
                <a:latin typeface="Corbel"/>
              </a:rPr>
              <a:t>	</a:t>
            </a:r>
            <a:r>
              <a:rPr b="1" lang="en-US" sz="1600" spc="-1" strike="noStrike">
                <a:solidFill>
                  <a:srgbClr val="e66c7d"/>
                </a:solidFill>
                <a:latin typeface="Corbel"/>
              </a:rPr>
              <a:t>B.</a:t>
            </a:r>
            <a:r>
              <a:rPr b="1" lang="en-US" sz="1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the area in which the system/population/process/research </a:t>
            </a: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has </a:t>
            </a: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been </a:t>
            </a: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evaluated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1800" spc="-1" strike="noStrike">
                <a:solidFill>
                  <a:srgbClr val="60b5cc"/>
                </a:solidFill>
                <a:latin typeface="Corbel"/>
              </a:rPr>
              <a:t>[8]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 Describe – shortly – the choice of the evaluation study typ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1800" spc="-1" strike="noStrike">
                <a:solidFill>
                  <a:srgbClr val="60b5cc"/>
                </a:solidFill>
                <a:latin typeface="Corbel"/>
              </a:rPr>
              <a:t>[9]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If necessary, provide a read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el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2" name=""/>
          <p:cNvGraphicFramePr/>
          <p:nvPr/>
        </p:nvGraphicFramePr>
        <p:xfrm>
          <a:off x="214200" y="1571760"/>
          <a:ext cx="8669520" cy="4064040"/>
        </p:xfrm>
        <a:graphic>
          <a:graphicData uri="http://schemas.openxmlformats.org/drawingml/2006/table">
            <a:tbl>
              <a:tblPr/>
              <a:tblGrid>
                <a:gridCol w="2752920"/>
                <a:gridCol w="1616040"/>
                <a:gridCol w="2144520"/>
                <a:gridCol w="21560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c000"/>
                          </a:solidFill>
                          <a:latin typeface="Corbel"/>
                        </a:rPr>
                        <a:t>Guide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0ad00"/>
                          </a:solidFill>
                          <a:latin typeface="Corbel"/>
                        </a:rPr>
                        <a:t>Compli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0ad00"/>
                          </a:solidFill>
                          <a:latin typeface="Corbel"/>
                        </a:rPr>
                        <a:t>Not compli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0ad00"/>
                          </a:solidFill>
                          <a:latin typeface="Corbel"/>
                        </a:rPr>
                        <a:t>Not applic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tudy repo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4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91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ummary of pa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2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b6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Keywo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4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91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Introduction of a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2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b6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Why research is condu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4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91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ignificance for 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2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b6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escribe system &amp; a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4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91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Motivate study cho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2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b6b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rovide rea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4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c00000"/>
                          </a:solidFill>
                          <a:latin typeface="Corbe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91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323" name="Tekstvak 4"/>
          <p:cNvSpPr/>
          <p:nvPr/>
        </p:nvSpPr>
        <p:spPr>
          <a:xfrm>
            <a:off x="214200" y="5786280"/>
            <a:ext cx="864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rbel"/>
              </a:rPr>
              <a:t>Title –</a:t>
            </a:r>
            <a:r>
              <a:rPr b="0" lang="en-GB" sz="1800" spc="-1" strike="noStrike">
                <a:solidFill>
                  <a:srgbClr val="000000"/>
                </a:solidFill>
                <a:latin typeface="Corbel"/>
              </a:rPr>
              <a:t> guideline </a:t>
            </a:r>
            <a:r>
              <a:rPr b="1" lang="en-GB" sz="1800" spc="-1" strike="noStrike">
                <a:solidFill>
                  <a:srgbClr val="000000"/>
                </a:solidFill>
                <a:latin typeface="Corbe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rbel"/>
              </a:rPr>
              <a:t>Abstract – </a:t>
            </a:r>
            <a:r>
              <a:rPr b="0" lang="en-GB" sz="1800" spc="-1" strike="noStrike">
                <a:solidFill>
                  <a:srgbClr val="000000"/>
                </a:solidFill>
                <a:latin typeface="Corbel"/>
              </a:rPr>
              <a:t>guidelines </a:t>
            </a:r>
            <a:r>
              <a:rPr b="1" lang="en-GB" sz="1800" spc="-1" strike="noStrike">
                <a:solidFill>
                  <a:srgbClr val="000000"/>
                </a:solidFill>
                <a:latin typeface="Corbe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rbel"/>
              </a:rPr>
              <a:t> and </a:t>
            </a:r>
            <a:r>
              <a:rPr b="1" lang="en-GB" sz="1800" spc="-1" strike="noStrike">
                <a:solidFill>
                  <a:srgbClr val="000000"/>
                </a:solidFill>
                <a:latin typeface="Corbe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rbel"/>
              </a:rPr>
              <a:t>Introduction – </a:t>
            </a:r>
            <a:r>
              <a:rPr b="0" lang="en-GB" sz="1800" spc="-1" strike="noStrike">
                <a:solidFill>
                  <a:srgbClr val="000000"/>
                </a:solidFill>
                <a:latin typeface="Corbel"/>
              </a:rPr>
              <a:t>guidelines </a:t>
            </a:r>
            <a:r>
              <a:rPr b="1" lang="en-GB" sz="1800" spc="-1" strike="noStrike">
                <a:solidFill>
                  <a:srgbClr val="000000"/>
                </a:solidFill>
                <a:latin typeface="Corbel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rbel"/>
              </a:rPr>
              <a:t> up to </a:t>
            </a:r>
            <a:r>
              <a:rPr b="1" lang="en-GB" sz="1800" spc="-1" strike="noStrike">
                <a:solidFill>
                  <a:srgbClr val="000000"/>
                </a:solidFill>
                <a:latin typeface="Corbel"/>
              </a:rPr>
              <a:t>9</a:t>
            </a:r>
            <a:r>
              <a:rPr b="0" lang="en-GB" sz="1800" spc="-1" strike="noStrike">
                <a:solidFill>
                  <a:srgbClr val="000000"/>
                </a:solidFill>
                <a:latin typeface="Corbel"/>
              </a:rPr>
              <a:t> inclus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el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Nice to think about creating guidelin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lnSpc>
                <a:spcPct val="15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CONSORT was not sufficient enough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Han is not fully compliant with our guidelin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lnSpc>
                <a:spcPct val="15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0b5cc"/>
                </a:solidFill>
                <a:latin typeface="Corbe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 out of </a:t>
            </a:r>
            <a:r>
              <a:rPr b="1" lang="en-GB" sz="2800" spc="-1" strike="noStrike">
                <a:solidFill>
                  <a:srgbClr val="60b5cc"/>
                </a:solidFill>
                <a:latin typeface="Corbel"/>
              </a:rPr>
              <a:t>9</a:t>
            </a: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 guidelines were not adhere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lnSpc>
                <a:spcPct val="15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Overall: </a:t>
            </a:r>
            <a:r>
              <a:rPr b="1" lang="en-GB" sz="2800" spc="-1" strike="noStrike">
                <a:solidFill>
                  <a:srgbClr val="60b5cc"/>
                </a:solidFill>
                <a:latin typeface="Corbel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 out of </a:t>
            </a:r>
            <a:r>
              <a:rPr b="1" lang="en-GB" sz="2800" spc="-1" strike="noStrike">
                <a:solidFill>
                  <a:srgbClr val="60b5cc"/>
                </a:solidFill>
                <a:latin typeface="Corbel"/>
              </a:rPr>
              <a:t>25</a:t>
            </a: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 guidelines were not adhere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lnSpc>
                <a:spcPct val="15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el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C:\Documents and Settings\Yurij Stanngrad\Local Settings\Temporary Internet Files\Content.IE5\2DUFN1ZX\MPj04018280000[1].jpg"/>
          <p:cNvPicPr/>
          <p:nvPr/>
        </p:nvPicPr>
        <p:blipFill>
          <a:blip r:embed="rId2"/>
          <a:srcRect l="0" t="0" r="0" b="38247"/>
          <a:stretch/>
        </p:blipFill>
        <p:spPr>
          <a:xfrm>
            <a:off x="0" y="1500120"/>
            <a:ext cx="91440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11:19:21Z</dcterms:created>
  <dc:creator>de Groot</dc:creator>
  <dc:description/>
  <dc:language>en-US</dc:language>
  <cp:lastModifiedBy>de Groot</cp:lastModifiedBy>
  <dcterms:modified xsi:type="dcterms:W3CDTF">2008-02-14T19:36:54Z</dcterms:modified>
  <cp:revision>35</cp:revision>
  <dc:subject/>
  <dc:title>GRESHI</dc:title>
</cp:coreProperties>
</file>