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230-924F-496C-8AEF-E6E1ACE0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81D-9AB1-4CE1-9AFD-48E6106F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CDC-3E91-4A13-829B-48BFB94D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6EF-8247-43DA-ADF0-56D428B5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B0EC-E621-4FFB-A05D-A316B900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F20-B7D4-4CE9-B6FA-1537BD71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4FF-18B7-42DA-8FFE-44AC7C5D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665-D712-4BFD-9FED-CA5CEF2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859-E739-4F2F-8F33-6B1971A4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FE6-22E4-4AA0-B6A2-F2CB1497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C9A-568F-4D90-9AD9-28621C3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570-23C5-43D9-872D-3EDF94F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9E8-81EB-41AB-A78E-D1653FAE6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medicine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emedicinehealth.com/" TargetMode="External"/><Relationship Id="rId4" Type="http://schemas.openxmlformats.org/officeDocument/2006/relationships/hyperlink" Target="http://www.hon.ch/HONcode/Conduct.html?HONConduct256884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medicine.com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61760" y="4800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ster Medical Informatic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Biomedical Research and evaluation Method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arten Buit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Khalid Bohoud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Mark de Gro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Evelyn L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7200" y="1371600"/>
            <a:ext cx="4267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ability evaluation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edic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914400" y="2525760"/>
            <a:ext cx="41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ntinually updated clinical 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886200" cy="281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Medicine from WebM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3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35800" y="1143000"/>
            <a:ext cx="79498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ontrol and freedom (03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very applicable to E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 back button works f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Breadcrumb navigation hampers back and re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228600" y="1143000"/>
            <a:ext cx="85345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ency and Standards (04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way from homepage and category listings, reference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 look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dicine follows web standards to large ext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nical information printer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ien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gle color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-resizable text on home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 information on the lef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de (and not func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486400" y="2971800"/>
            <a:ext cx="3276720" cy="23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304920" y="5638680"/>
            <a:ext cx="84344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28600" y="1143000"/>
            <a:ext cx="85345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 prevention (05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registering for accoun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 checks for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ken links offer no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 custom HTTP-404 err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629240" y="1511280"/>
            <a:ext cx="4209840" cy="237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4648320" y="4102200"/>
            <a:ext cx="41907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93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28600" y="1143000"/>
            <a:ext cx="85345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tion rather than recall (06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stem does not use icons or images to indicate cer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images has been minimized, and when ima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used, relation with item is not cle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2971800" y="4267080"/>
            <a:ext cx="2370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28600" y="114300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ility and efficiency of use (07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te offers no accelerators or hotk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228600" y="114300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sthetic and minimalist design (08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homepage shows clear “design” make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with corresponding usability proble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nical pages are lean, text-only with images at the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s do contain commercial information (adds), but all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main rel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3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28600" y="1143000"/>
            <a:ext cx="85345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users recognize, diagnose and recover from errors (09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really apply to this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bad http-404 pages are not advisable for error reco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box does offer alternative suggestions, lik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457200" y="4419720"/>
            <a:ext cx="792468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07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28600" y="1143000"/>
            <a:ext cx="8534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and Documentation (10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ly needed for this simple website, theref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Medicine from WebMD"/>
          <p:cNvPicPr/>
          <p:nvPr/>
        </p:nvPicPr>
        <p:blipFill>
          <a:blip r:embed="rId1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53800" y="1143000"/>
            <a:ext cx="7831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k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have individually analyzed three different tas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Emedicine categories, find medication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rapy of schizophrenic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an account needed to login to E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the search box to find (in Emedicine) rad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of acute pancre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48040" y="1143000"/>
            <a:ext cx="49125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E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bility evaluation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uristic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t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 and 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49120" y="1143000"/>
            <a:ext cx="87375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E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ed in 19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rgets professionals and instit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000 contributors, 7.000 articles in 59 special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30.000 multimedia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-based content, thoroughly reviewed before put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so found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medicinehealth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onsum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cribe to Health On the Net Foundation codes (HONco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secure.emedicine.com/registration/webfiles/honcode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42840" y="5772240"/>
            <a:ext cx="4287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48040" y="1143000"/>
            <a:ext cx="82335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this Usability Evalu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ing number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ed us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decreased adverto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enue, and less pay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itutional custo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bility evaluation part of parallel two-fold rescue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he other team reviews the content and the user’s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952880" y="1143000"/>
            <a:ext cx="36198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17440" y="1143000"/>
            <a:ext cx="793296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ability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te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impression and review of self-made “Good website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lsen 10 item heuristic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 (3 tas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1640" y="114300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mpression home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641520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7013160" y="1828800"/>
            <a:ext cx="183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efficient use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reen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onsistent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ad lin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ere am 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no sitema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clear choice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 customiz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arch box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41200" y="1143000"/>
            <a:ext cx="7290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ability evaluation – Heuristics (Jacob Niels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 of system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 between real world and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control and fre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and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ror pre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tion rather than re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lexibility and efficiency of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sthetic and minimalist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users recognize, diagnose, and recover from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 and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5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photo of Jakob Nielsen"/>
          <p:cNvPicPr/>
          <p:nvPr/>
        </p:nvPicPr>
        <p:blipFill>
          <a:blip r:embed="rId3"/>
          <a:stretch/>
        </p:blipFill>
        <p:spPr>
          <a:xfrm>
            <a:off x="6705720" y="1905120"/>
            <a:ext cx="10476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71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41920" y="1143000"/>
            <a:ext cx="81536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bility of System Status (01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it doing?” taken care of by browser progress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dcrumb navigation: Inconsistent use, and not working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ted pages not recognizable because of single color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all site performance: very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533520" y="2476440"/>
            <a:ext cx="7095960" cy="266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523800" y="3962520"/>
            <a:ext cx="50389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Medicine from Web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1320840" cy="333360"/>
          </a:xfrm>
          <a:prstGeom prst="rect">
            <a:avLst/>
          </a:prstGeom>
          <a:ln w="0">
            <a:noFill/>
          </a:ln>
        </p:spPr>
      </p:pic>
      <p:sp>
        <p:nvSpPr>
          <p:cNvPr id="76" name="Straight Connector 4"/>
          <p:cNvSpPr/>
          <p:nvPr/>
        </p:nvSpPr>
        <p:spPr>
          <a:xfrm>
            <a:off x="228600" y="762120"/>
            <a:ext cx="8534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480" y="1143000"/>
            <a:ext cx="8345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 between system and real world (02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uses daily user’s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s of link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, button texts are clear (Search, Back, Next, T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unclear abbreviations (CME, CE (probably medical exams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9810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0:35:02Z</dcterms:created>
  <dc:creator>0467103</dc:creator>
  <dc:description/>
  <dc:language>en-US</dc:language>
  <cp:lastModifiedBy>0467103</cp:lastModifiedBy>
  <dcterms:modified xsi:type="dcterms:W3CDTF">2008-02-27T15:49:14Z</dcterms:modified>
  <cp:revision>48</cp:revision>
  <dc:subject/>
  <dc:title>Slide 1</dc:title>
</cp:coreProperties>
</file>