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308-5604-4C10-B82D-8C2269B1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B58-A725-4B0C-898F-267D64F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378-D0AA-49AE-86A4-23FA6FCB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A96-F4EF-4BAF-BCD3-6EE6649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F0B-284B-41F7-944F-AC77FE0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6DA-113D-4BE5-A5A9-25B42983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201-CB57-4000-AD04-AE6E7125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F0F-16FD-4AC2-BA22-2D774F53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DAA-6374-4CA1-8C41-DE0B32C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CC7-626B-4293-9ECA-3E8F46E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C99-DDD8-4AA2-992B-58AAF52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9F0-79CF-4A8B-BA6F-BB2A16E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F67-369F-4979-B9C3-B01CA56FA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medicin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medicinehealth.com/" TargetMode="External"/><Relationship Id="rId4" Type="http://schemas.openxmlformats.org/officeDocument/2006/relationships/hyperlink" Target="http://www.hon.ch/HONcode/Conduct.html?HONConduct256884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4800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ter Medical Informati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Biomedical Research and evaluation Method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arten Bui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Khalid Bohou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rk de Gro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velyn L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7200" y="1371600"/>
            <a:ext cx="426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ability evaluatio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edic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914400" y="2525760"/>
            <a:ext cx="41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ntinually updated clinical 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886200" cy="281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Medicine from WebM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3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35800" y="1143000"/>
            <a:ext cx="79498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ontrol and freedom (03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very applicable to E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 back button works f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Breadcrumb navigation hampers back and re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28600" y="1143000"/>
            <a:ext cx="8534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ency and Standards (04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way from homepage and category listings, referenc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 look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dicine follows web standards to large ext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nical information printer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ien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gle color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resizable text on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 information on the lef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de (and not func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3276720" cy="23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04920" y="5638680"/>
            <a:ext cx="84344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28600" y="1143000"/>
            <a:ext cx="85345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prevention (05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gistering for accoun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checks for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ken links offer no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 custom HTTP-404 err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629240" y="1511280"/>
            <a:ext cx="4209840" cy="237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4648320" y="4102200"/>
            <a:ext cx="41907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28600" y="1143000"/>
            <a:ext cx="8534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tion rather than recall (06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stem does not use icons or images to indicate cer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images has been minimized, and when im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, relation with item is not cle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370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28600" y="11430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ility and efficiency of use (07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te offers no accelerators or hotk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8600" y="114300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sthetic and minimalist design (08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homepage shows clear “design” make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th corresponding usability probl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nical pages are lean, text-only with images at 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 do contain commercial information (adds), but all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rel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28600" y="1143000"/>
            <a:ext cx="8534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users recognize, diagnose and recover from errors (09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really apply to this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bad http-404 pages are not advisable for error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box does offer alternative suggestions, lik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79246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28600" y="1143000"/>
            <a:ext cx="8534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and Documentation (10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ly needed for this simple website, theref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53800" y="1143000"/>
            <a:ext cx="7831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individually analyzed three different tas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Emedicine categories, find medication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rapy of schizophrenic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n account needed to login to E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search box to find (in Emedicine) rad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of acute pancre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48040" y="1143000"/>
            <a:ext cx="4912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E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bility evalu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 and 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49120" y="1143000"/>
            <a:ext cx="87375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E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in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s professionals and instit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000 contributors, 7.000 articles in 59 special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30.000 multimedia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-based content, thoroughly reviewed before put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found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medicinehealth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onsum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cribe to Health On the Net Foundation codes (HONco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secure.emedicine.com/registration/webfiles/honcode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42840" y="5772240"/>
            <a:ext cx="4287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48040" y="1143000"/>
            <a:ext cx="8233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this Usability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ing number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ed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decreased adverto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nue, and less pay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 custo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bility evaluation part of parallel two-fold rescue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other team reviews the content and the user’s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36198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17440" y="1143000"/>
            <a:ext cx="79329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ability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e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impression and review of self-made “Good website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lsen 10 item heuristic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 (3 tas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1640" y="11430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mpression home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641520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7013160" y="1828800"/>
            <a:ext cx="18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efficient use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reen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onsistent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ad li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ere am 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no sitema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clear choice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 customiz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arch box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41200" y="1143000"/>
            <a:ext cx="7290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ability evaluation – Heuristics (Jacob Niels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 of system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between real world and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control and fre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and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ror pre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tion rather than re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ity and efficiency of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sthetic and minimalist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users recognize, diagnose, and recover from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and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photo of Jakob Nielsen"/>
          <p:cNvPicPr/>
          <p:nvPr/>
        </p:nvPicPr>
        <p:blipFill>
          <a:blip r:embed="rId3"/>
          <a:stretch/>
        </p:blipFill>
        <p:spPr>
          <a:xfrm>
            <a:off x="6705720" y="1905120"/>
            <a:ext cx="10476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71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41920" y="1143000"/>
            <a:ext cx="81536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bility of System Status (01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it doing?” taken care of by browser progress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dcrumb navigation: Inconsistent use, and not working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ed pages not recognizable because of single color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all site performance: very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533520" y="2476440"/>
            <a:ext cx="7095960" cy="26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523800" y="3962520"/>
            <a:ext cx="5038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480" y="1143000"/>
            <a:ext cx="8345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 between system and real world (02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uses daily user’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s of link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, button texts are clear (Search, Back, Next, T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unclear abbreviations (CME, CE (probably medical exams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981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0:35:02Z</dcterms:created>
  <dc:creator>0467103</dc:creator>
  <dc:description/>
  <dc:language>en-US</dc:language>
  <cp:lastModifiedBy>0467103</cp:lastModifiedBy>
  <dcterms:modified xsi:type="dcterms:W3CDTF">2008-02-27T15:49:14Z</dcterms:modified>
  <cp:revision>48</cp:revision>
  <dc:subject/>
  <dc:title>Slide 1</dc:title>
</cp:coreProperties>
</file>