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040A-632C-4B2A-ACA2-1BBE5DE8AF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f = 1, kritiek punt = 3,841 X^2 zit daaronder dus deze test is niet voldoende heterogeen om de null hypothese te verwerpen (beide behandelmethoden leiden tot dezelfde respon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esentation bias -&gt; alleen de positieve informatie was bekend of typische resultaten (het levert verbetering op, maar geen cij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bserver bias -&gt; observant was niet geblindee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533-F6D4-43E1-A8F9-531F392B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DB5-30A0-4330-B321-CB35946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446-D9FC-49F0-8A7D-77D4DDA8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DC8-FADA-44F2-8F62-6EC6FF01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33B4-02EF-4493-B49B-2A622199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10DF-CF7A-4516-8C24-28851364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1A04-F4DB-4B92-B9F2-36ED5B38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E364-9771-48F4-B4D8-F94D32AB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409B-D8A5-4FFB-8BB8-3526F646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8DEC-8643-443D-8EEE-5BBB37F6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F504-8EE6-448C-BDFD-84D6A2A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D7F-3976-493B-9133-165247DA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AEA9-A10E-440D-AE8E-5E414926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7328-1CE4-424A-8203-09CD69EA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F57E-50FF-4A5D-8E2A-90C0F088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2CA4-4740-4A0C-AD5F-0D33CB31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3448-A42E-49DC-9DE4-A1636CC4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3AC-4637-4AE5-9C0A-85AE99A1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FF2-5BA5-403E-AEAF-804B041F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337-72F8-45C4-BFA8-2FF5084A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AC6-4DC6-42B9-98F4-24AA0778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4B1-F973-49BD-B31D-53ED5C8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852-F028-4E64-91C5-CC614E22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0B0-4BD9-478F-BBB2-C381078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5FF0-4942-4B48-860B-DFF3DD36D35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0774-84EF-48DC-92E5-909C0FC4717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81000" y="1500120"/>
            <a:ext cx="7197840" cy="1743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eta-analysis of the efficacy of electroconvulsive therapy in depressive disord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rk de Groot 04552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rjet van der Vegt 04220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ichelle Niekoop 04552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Calcula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 the next 2 slides it will be made clear how the calculations have been made by us (and the compu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2240" y="2354400"/>
                <a:ext cx="1757160" cy="39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×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4" name=""/>
          <p:cNvGraphicFramePr/>
          <p:nvPr/>
        </p:nvGraphicFramePr>
        <p:xfrm>
          <a:off x="2195640" y="0"/>
          <a:ext cx="4038480" cy="2185920"/>
        </p:xfrm>
        <a:graphic>
          <a:graphicData uri="http://schemas.openxmlformats.org/drawingml/2006/table">
            <a:tbl>
              <a:tblPr/>
              <a:tblGrid>
                <a:gridCol w="1076040"/>
                <a:gridCol w="1079640"/>
                <a:gridCol w="1224000"/>
                <a:gridCol w="65880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.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348000" y="549360"/>
            <a:ext cx="22320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A</a:t>
            </a: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  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C</a:t>
            </a: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660066"/>
                </a:solidFill>
                <a:latin typeface="Arial"/>
              </a:rPr>
              <a:t> 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32280" y="2365200"/>
                <a:ext cx="309744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3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3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3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8c0039"/>
                </a:solidFill>
                <a:latin typeface="Arial"/>
                <a:ea typeface="Arial"/>
              </a:rPr>
              <a:t>χ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  <a:ea typeface="Arial"/>
              </a:rPr>
              <a:t>²-te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95640" y="1628640"/>
          <a:ext cx="3379680" cy="2457360"/>
        </p:xfrm>
        <a:graphic>
          <a:graphicData uri="http://schemas.openxmlformats.org/drawingml/2006/table">
            <a:tbl>
              <a:tblPr/>
              <a:tblGrid>
                <a:gridCol w="901800"/>
                <a:gridCol w="902880"/>
                <a:gridCol w="1022760"/>
                <a:gridCol w="55224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In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eal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im.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718240" y="1628640"/>
          <a:ext cx="3392280" cy="2444400"/>
        </p:xfrm>
        <a:graphic>
          <a:graphicData uri="http://schemas.openxmlformats.org/drawingml/2006/table">
            <a:tbl>
              <a:tblPr/>
              <a:tblGrid>
                <a:gridCol w="906120"/>
                <a:gridCol w="904320"/>
                <a:gridCol w="1027080"/>
                <a:gridCol w="55476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eff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l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m. 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395280" y="1125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bserve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30480" y="5138640"/>
                <a:ext cx="75960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bserved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ected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xpected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bserved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ected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xpected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6599160" y="2265480"/>
            <a:ext cx="2076480" cy="1379520"/>
            <a:chOff x="6599160" y="2265480"/>
            <a:chExt cx="2076480" cy="1379520"/>
          </a:xfrm>
        </p:grpSpPr>
        <p:sp>
          <p:nvSpPr>
            <p:cNvPr id="124" name=""/>
            <p:cNvSpPr/>
            <p:nvPr/>
          </p:nvSpPr>
          <p:spPr>
            <a:xfrm>
              <a:off x="6599160" y="2265480"/>
              <a:ext cx="936720" cy="649080"/>
            </a:xfrm>
            <a:prstGeom prst="rect">
              <a:avLst/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12*21/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32720" y="2781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093080" y="24210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93080" y="242100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51640" y="2708280"/>
              <a:ext cx="122400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Real ECT vs. Simulated E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11182" b="0"/>
          <a:stretch/>
        </p:blipFill>
        <p:spPr>
          <a:xfrm>
            <a:off x="0" y="1413000"/>
            <a:ext cx="914400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Standard Err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lett 1956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ill 1959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ris &amp; Robin 1960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1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ahy 196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eman 1978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mbourn &amp; Gill 1978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ohnstone 1980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on 198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gadeesh 199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0,0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394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Pooled Resul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268360" y="1844640"/>
                <a:ext cx="43722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ole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nary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6732720" y="2133720"/>
            <a:ext cx="230328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0,8893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0,026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248,991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re is substantial evidence that the Real ECT is more than 1 time [95% CI: 1,28 – 3,18] more efficient (or good response) in treating patients than the simulated 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r research was significant because the overal-interval did not cross the dividing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0" r="12077" b="0"/>
          <a:stretch/>
        </p:blipFill>
        <p:spPr>
          <a:xfrm>
            <a:off x="0" y="1100160"/>
            <a:ext cx="9144000" cy="4799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Real ECT vs.</a:t>
            </a:r>
            <a:br>
              <a:rPr sz="3600"/>
            </a:b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Antidepressive Ag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Standard Err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84360" y="836640"/>
            <a:ext cx="566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uce 196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rris &amp; Robin 196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1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loh et al. 196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uce et al. 196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bin &amp; Harris 196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bin &amp; Harris 196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hy et. al. 1963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lson et al. 1963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ntchinson 1963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eenblatt et al. 1964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eenblatt &amp; Grosser 1964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hepherd 196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. R. Council 196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iner 1978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ngadahar 198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nan &amp; Barry 1989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lkerts et. al. 1997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421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anakirmaiah 20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,0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Pooled Resul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68360" y="1844640"/>
                <a:ext cx="43722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ooled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e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nary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nary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ooled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732720" y="2133720"/>
            <a:ext cx="230328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1,3954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0,0104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= 1761,0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CT? – A brief ex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ons &amp;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rest Plots &amp;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ere is substantial evidence that ECT is more than 2,5 ti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[95% CI: 2,60 – 4,68] more efficient (or good response) in treating patients than the antidepressive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r research was significant because the overal-interval did not cross the dividing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c0039"/>
                </a:solidFill>
                <a:latin typeface="Arial"/>
              </a:rPr>
              <a:t>Recommendati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hough our research is positive about the ECT, there is not much known about the effects of 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hat area has to be researched and there are still side-effects which we have to take car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T can be useful in treatment of depressive disorders, but keep the side-effects in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troduction to EC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T uses 6 to 10 electric pulses which are administered to the brain, these pulses have to break through the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till unknown what the pulses trigger (or triggers) in the brain to break through the depr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8c0039"/>
                </a:solidFill>
                <a:latin typeface="Arial"/>
              </a:rPr>
              <a:t>PICO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with depressive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convulsive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d ECT and antidepre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 measurable effect of ECT and if there is, (2) is it more efficient than antidepress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arch Strate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bM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“Antidepressive Agents” [MeS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“Electroconvulsive Therapy” [MeS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“Depressive disord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#2 AND #3 AND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arch Strate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chrane Libr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convulsive Therapy” OR 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oconvulsive Therapy” AND depression OR “depressive disord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T OR (Electro* NEAR Therapy) AND depress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1 AND RCT OR Controlled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3 AND R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arch Strateg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MBASE (OVID, CINAHL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convulsive Therapy” OR 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ression OR “depressive disord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CT OR “Random Clinical Trial” OR “Clinical Tri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1 AND #3 AND Sim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1 AND #2 AND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lection Criteri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docume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age-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made it dichotomous, because most of the publications talked about improvement of life or no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English or Du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chable – AMC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election Criteri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clu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r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10:43:11Z</dcterms:created>
  <dc:creator>0455261</dc:creator>
  <dc:description/>
  <dc:language>en-US</dc:language>
  <cp:lastModifiedBy>de Groot</cp:lastModifiedBy>
  <dcterms:modified xsi:type="dcterms:W3CDTF">2006-02-20T11:01:01Z</dcterms:modified>
  <cp:revision>63</cp:revision>
  <dc:subject/>
  <dc:title>Meta-analyse of the efficacy of electorconvulsive therapy in depressive disorders.</dc:title>
</cp:coreProperties>
</file>