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4BD6-659C-428E-9BBE-2FCA19824BA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f = 1, kritiek punt = 3,841 X^2 zit daaronder dus deze test is niet voldoende heterogeen om de null hypothese te verwerpen (beide behandelmethoden leiden tot dezelfde respon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esentation bias -&gt; alleen de positieve informatie was bekend of typische resultaten (het levert verbetering op, maar geen cij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bserver bias -&gt; observant was niet geblindee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A3C9-9CF1-4449-BFCF-BFD72CC8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AE1-46F5-42E9-B59A-EE10574D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70AA-F4DF-47A5-A057-C0D7E348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9832-B974-4C9C-886D-A4B53D26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4E82-38F7-449D-8F75-DA0668C2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B49A-551A-4B85-9EAD-42A23008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3019-4880-4F72-8A10-9BF74AE0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1D79-78C8-4621-BC7F-47F5041C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E9D8-C2ED-4629-B02E-1C9D4675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5AC9-23FA-436A-AA33-1FDD51FC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7AF6-6BA7-40B1-AEDE-538F704F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6B4-1113-4A9A-902C-27BC2625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2864-7F91-403F-B5EE-AE38A155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B0C2-F5F3-4F4C-BD51-17D7909E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7A07-56DF-427A-9BC8-1BCCB38F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4A1E-E759-449C-9C72-DF59AA47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74BF-3EE0-4CD8-9387-71640CA1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483E-B6B3-4F6D-ADF9-800C8EFC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E438-86FE-4849-A539-7A34703D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3AA1-DBA1-4AD5-9B9B-5654E8F1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9EF9-63BF-4137-9030-A9683DBD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CFF-570F-4A51-883B-E068AD84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6031-809C-4447-A9A4-68079C89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EAB-5E4B-4115-BE15-E33BD09D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B670-C97D-4D6C-9923-623B6C5CA91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7050-AFF9-41E5-A810-2E437C8DBA1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81000" y="1500120"/>
            <a:ext cx="7197840" cy="1743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eta-analysis of the efficacy of electroconvulsive therapy in depressive disord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rk de Groot 04552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rjet van der Vegt 04220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ichelle Niekoop 04552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8c0039"/>
                </a:solidFill>
                <a:latin typeface="Arial"/>
              </a:rPr>
              <a:t>Calculat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 the next 2 slides it will be made clear how the calculations have been made by us (and the comput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62240" y="2354400"/>
                <a:ext cx="1757160" cy="39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R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×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×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4" name=""/>
          <p:cNvGraphicFramePr/>
          <p:nvPr/>
        </p:nvGraphicFramePr>
        <p:xfrm>
          <a:off x="2195640" y="0"/>
          <a:ext cx="4038480" cy="2185920"/>
        </p:xfrm>
        <a:graphic>
          <a:graphicData uri="http://schemas.openxmlformats.org/drawingml/2006/table">
            <a:tbl>
              <a:tblPr/>
              <a:tblGrid>
                <a:gridCol w="1076040"/>
                <a:gridCol w="1079640"/>
                <a:gridCol w="1224000"/>
                <a:gridCol w="65880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eff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 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. 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348000" y="549360"/>
            <a:ext cx="22320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660066"/>
                </a:solidFill>
                <a:latin typeface="Arial"/>
              </a:rPr>
              <a:t>A</a:t>
            </a:r>
            <a:r>
              <a:rPr b="1" lang="nl-NL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660066"/>
                </a:solidFill>
                <a:latin typeface="Arial"/>
              </a:rPr>
              <a:t>  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660066"/>
                </a:solidFill>
                <a:latin typeface="Arial"/>
              </a:rPr>
              <a:t>C</a:t>
            </a:r>
            <a:r>
              <a:rPr b="1" lang="nl-NL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660066"/>
                </a:solidFill>
                <a:latin typeface="Arial"/>
              </a:rPr>
              <a:t>  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832280" y="2365200"/>
                <a:ext cx="309744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9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3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3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3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8c0039"/>
                </a:solidFill>
                <a:latin typeface="Arial"/>
                <a:ea typeface="Arial"/>
              </a:rPr>
              <a:t>χ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  <a:ea typeface="Arial"/>
              </a:rPr>
              <a:t>²-tes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195640" y="1628640"/>
          <a:ext cx="3379680" cy="2457360"/>
        </p:xfrm>
        <a:graphic>
          <a:graphicData uri="http://schemas.openxmlformats.org/drawingml/2006/table">
            <a:tbl>
              <a:tblPr/>
              <a:tblGrid>
                <a:gridCol w="901800"/>
                <a:gridCol w="902880"/>
                <a:gridCol w="1022760"/>
                <a:gridCol w="55224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ff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Ineff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Real 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im. 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718240" y="1628640"/>
          <a:ext cx="3392280" cy="2444400"/>
        </p:xfrm>
        <a:graphic>
          <a:graphicData uri="http://schemas.openxmlformats.org/drawingml/2006/table">
            <a:tbl>
              <a:tblPr/>
              <a:tblGrid>
                <a:gridCol w="906120"/>
                <a:gridCol w="904320"/>
                <a:gridCol w="1027080"/>
                <a:gridCol w="55476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ff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eff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al 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im. 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395280" y="1125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bserve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Exp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30480" y="5138640"/>
                <a:ext cx="759600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bserved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ected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xpected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bserved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ected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xpected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3" name=""/>
          <p:cNvGrpSpPr/>
          <p:nvPr/>
        </p:nvGrpSpPr>
        <p:grpSpPr>
          <a:xfrm>
            <a:off x="6599160" y="2265480"/>
            <a:ext cx="2076480" cy="1379520"/>
            <a:chOff x="6599160" y="2265480"/>
            <a:chExt cx="2076480" cy="1379520"/>
          </a:xfrm>
        </p:grpSpPr>
        <p:sp>
          <p:nvSpPr>
            <p:cNvPr id="124" name=""/>
            <p:cNvSpPr/>
            <p:nvPr/>
          </p:nvSpPr>
          <p:spPr>
            <a:xfrm>
              <a:off x="6599160" y="2265480"/>
              <a:ext cx="936720" cy="649080"/>
            </a:xfrm>
            <a:prstGeom prst="rect">
              <a:avLst/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12*21/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32720" y="2781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7093080" y="24210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93080" y="242100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51640" y="2708280"/>
              <a:ext cx="122400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8c0039"/>
                </a:solidFill>
                <a:latin typeface="Arial"/>
              </a:rPr>
              <a:t>Real ECT vs. Simulated EC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11182" b="0"/>
          <a:stretch/>
        </p:blipFill>
        <p:spPr>
          <a:xfrm>
            <a:off x="0" y="1413000"/>
            <a:ext cx="914400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8c0039"/>
                </a:solidFill>
                <a:latin typeface="Arial"/>
              </a:rPr>
              <a:t>Standard Erro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lett 1956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0,0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ill 1959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0,0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ris &amp; Robin 1960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0,1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ahy 196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0,0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reeman 1978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0,0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mbourn &amp; Gill 1978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hnstone 1980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0,0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on 1984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0,0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gadeesh 199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0,0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8c0039"/>
                </a:solidFill>
                <a:latin typeface="Arial"/>
              </a:rPr>
              <a:t>Pooled Resul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268360" y="1844640"/>
                <a:ext cx="43722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ole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oole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s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nary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nary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oled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6732720" y="2133720"/>
            <a:ext cx="230328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 0,8893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 0,0266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 248,99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8c0039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ere is substantial evidence that the Real ECT is more than 1 time [95% CI: 1,28 – 3,18] more efficient (or good response) in treating patients than the simulated 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ur research was significant because the overal-interval did not cross the dividing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0" t="0" r="12077" b="0"/>
          <a:stretch/>
        </p:blipFill>
        <p:spPr>
          <a:xfrm>
            <a:off x="0" y="1100160"/>
            <a:ext cx="9144000" cy="4799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8c0039"/>
                </a:solidFill>
                <a:latin typeface="Arial"/>
              </a:rPr>
              <a:t>Real ECT vs.</a:t>
            </a:r>
            <a:br>
              <a:rPr sz="3600"/>
            </a:br>
            <a:r>
              <a:rPr b="0" lang="nl-NL" sz="3600" spc="-1" strike="noStrike">
                <a:solidFill>
                  <a:srgbClr val="8c0039"/>
                </a:solidFill>
                <a:latin typeface="Arial"/>
              </a:rPr>
              <a:t>Antidepressive Agen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8c0039"/>
                </a:solidFill>
                <a:latin typeface="Arial"/>
              </a:rPr>
              <a:t>Standard Erro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84360" y="836640"/>
            <a:ext cx="5662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uce 196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rris &amp; Robin 196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1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loh et al. 196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uce et al. 196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bin &amp; Harris 196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bin &amp; Harris 196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hy et. al. 1963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lson et al. 1963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ntchinson 1963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eenblatt et al. 1964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eenblatt &amp; Grosser 1964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hepherd 1965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. R. Council 1965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iner 1978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ngadahar 198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nan &amp; Barry 1989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lkerts et. al. 1997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anakirmaiah 200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8c0039"/>
                </a:solidFill>
                <a:latin typeface="Arial"/>
              </a:rPr>
              <a:t>Pooled Resul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68360" y="1844640"/>
                <a:ext cx="43722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ole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oole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s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nary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nary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oled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6732720" y="2133720"/>
            <a:ext cx="230328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 1,3954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 0,010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 1761,0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ECT? – A brief exp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ons &amp; 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rest Plots &amp;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8c0039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ere is substantial evidence that ECT is more than 2,5 ti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[95% CI: 2,60 – 4,68] more efficient (or good response) in treating patients than the antidepressive a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ur research was significant because the overal-interval did not cross the dividing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8c0039"/>
                </a:solidFill>
                <a:latin typeface="Arial"/>
              </a:rPr>
              <a:t>Recommenda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hough our research is positive about the ECT, there is not much known about the effects of 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at area has to be researched and there are still side-effects which we have to take care 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T can be useful in treatment of depressive disorders, but keep the side-effects in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duction to EC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T uses 6 to 10 electric pulses which are administered to the brain, these pulses have to break through the de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still unknown what the pulses trigger (or triggers) in the brain to break through the de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8c0039"/>
                </a:solidFill>
                <a:latin typeface="Arial"/>
              </a:rPr>
              <a:t>PICO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with depressive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convulsive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ed ECT and antidepress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measurable effect of ECT and if there is, (2) is it more efficient than antidepress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earch Strateg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ubM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“Antidepressive Agents” [MeSH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“Electroconvulsive Therapy” [MeSH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“Depressive disord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#2 AND #3 AND #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earch Strateg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chrane Libr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convulsive Therapy” OR 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oconvulsive Therapy” AND depression OR “depressive disord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T OR (Electro* NEAR Therapy) AND depress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1 AND RCT OR Controlled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3 AND R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earch Strateg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MBASE (OVID, CINAHL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convulsive Therapy” OR 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ression OR “depressive disord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CT OR “Random Clinical Trial” OR “Clinical Tri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1 AND #3 AND Sim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1 AND #2 AND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election Criteri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ll documen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age-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made it dichotomous, because most of the publications talked about improvement of life or no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guage – English or Du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chable – AMC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election Criteri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clu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r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0:43:11Z</dcterms:created>
  <dc:creator>0455261</dc:creator>
  <dc:description/>
  <dc:language>en-US</dc:language>
  <cp:lastModifiedBy>de Groot</cp:lastModifiedBy>
  <dcterms:modified xsi:type="dcterms:W3CDTF">2006-02-20T11:01:01Z</dcterms:modified>
  <cp:revision>63</cp:revision>
  <dc:subject/>
  <dc:title>Meta-analyse of the efficacy of electorconvulsive therapy in depressive disorders.</dc:title>
</cp:coreProperties>
</file>