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D5B1-5892-4234-B9AF-4199BF320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ng zijn zonder een reële drei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neer heftige angstklachten optreden zonder een reële bedreiging, is er mogelijk sprake van een angststoornis. Het ontbreken van een reële dreiging onderscheidt angststoornissen van normale gevoelens van vrees of angst. De symptomen zijn in beide gevallen hetzelfde: hartkloppingen, een droge mond, een beklemd gevoel, nerveuze spanning, prikkelbaarheid, rusteloosheid, verhoogde spierspanning of slaap- en concentratieproblem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e fobies komen in NL vaker voor dan in de EU, verder geen significant verschi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mgevingsgebonden facto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sen die weinig sociale steun krijgen – zoals alleenstaanden, mensen die hun partner hebben verloren of zijn gescheiden – hebben een verhoogd risico op het ontwikkelen van een angststoorni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ekscampag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ere gewaarwording van de bevolking; ruim 10% heeft een angststoorn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30176-44B6-447B-B2F0-ABA6C527C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41B91-7215-4C35-97F2-1FA47ED88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D4303-A8DA-4169-9C15-B5769D36A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E35EF-390D-4BB3-B233-B3AE2F431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05AA9A-60A1-40BC-82ED-E27B064173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C3567-F92A-4DEC-A652-96A065DAF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56060-7A9D-4DFB-844F-9791C7358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F66B8-5775-42DD-A982-801BB3CEB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9B9E8-D9A5-4B8E-B84E-67C7692EE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3E555-7C9B-4FE5-AE7E-1351AADE9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6A16F-B241-458E-82A3-9329E7EDA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ADC21-38CD-4053-9B46-689F4AA74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979E3-D2D6-449B-AA53-8DCBCEE51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9D0A1-B7D2-401E-BCB5-BFF71CB15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07878-4EDD-4650-8187-D3CC58E7C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2A1287-02ED-4F26-920A-91AEE4653F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76C68-AFE9-4689-96EC-47BE9ECAA8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C3264-C296-43A9-8863-0DD3C5E4B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64879-0884-4F21-8F26-7F31449FD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0F590-FC30-49A5-8592-5CA8E3E17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5B1E1-16EB-4FCE-8E1E-333F21C84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8DC71-CB8F-484B-8D85-B1EEA710B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83865-6DFB-4833-A438-FAB3084CB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7CA5F-CD39-4F55-9246-F7FA0F2E7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D8BE2-A48B-4142-95A7-42C1F34A2AF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96DEF-E7AE-4114-B1D7-E748701B840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rivm.nl/vtv/object_class/kom_angst.html" TargetMode="External"/><Relationship Id="rId3" Type="http://schemas.openxmlformats.org/officeDocument/2006/relationships/hyperlink" Target="http://www.nivel.nl/" TargetMode="External"/><Relationship Id="rId4" Type="http://schemas.openxmlformats.org/officeDocument/2006/relationships/hyperlink" Target="http://www.minvws.nl/" TargetMode="External"/><Relationship Id="rId5" Type="http://schemas.openxmlformats.org/officeDocument/2006/relationships/hyperlink" Target="http://www.rivm.nl/"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Verdana"/>
              </a:rPr>
              <a:t>Angststoornissen</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03280" y="4868640"/>
            <a:ext cx="7010640" cy="16002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ep 3:</a:t>
            </a:r>
            <a:endParaRPr b="0" lang="en-US" sz="2800" spc="-1" strike="noStrike">
              <a:solidFill>
                <a:srgbClr val="000000"/>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arten Buiter</a:t>
            </a:r>
            <a:endParaRPr b="0" lang="en-US" sz="2800" spc="-1" strike="noStrike">
              <a:solidFill>
                <a:srgbClr val="000000"/>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rk de Groot</a:t>
            </a:r>
            <a:endParaRPr b="0" lang="en-US" sz="2800" spc="-1" strike="noStrike">
              <a:solidFill>
                <a:srgbClr val="000000"/>
              </a:solidFill>
              <a:latin typeface="Verdana"/>
            </a:endParaRPr>
          </a:p>
        </p:txBody>
      </p:sp>
      <p:sp>
        <p:nvSpPr>
          <p:cNvPr id="94" name=""/>
          <p:cNvSpPr/>
          <p:nvPr/>
        </p:nvSpPr>
        <p:spPr>
          <a:xfrm>
            <a:off x="684360" y="2708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Preventie</a:t>
            </a:r>
            <a:r>
              <a:rPr b="0" lang="en-US" sz="3200" spc="-1" strike="noStrike">
                <a:solidFill>
                  <a:srgbClr val="000000"/>
                </a:solidFill>
                <a:latin typeface="Verdana"/>
              </a:rPr>
              <a:t> en </a:t>
            </a:r>
            <a:r>
              <a:rPr b="0" lang="nl-NL" sz="3200" spc="-1" strike="noStrike">
                <a:solidFill>
                  <a:srgbClr val="000000"/>
                </a:solidFill>
                <a:latin typeface="Verdana"/>
              </a:rPr>
              <a:t>bele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at zijn angststoornissen?</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ng zijn zonder een reële bedreiging</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oorbeelden:</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niekstoorni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orafobi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ciale fobi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generaliseerde angststoorni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pecifieke fobi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bsessieve-compulsieve stoorn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ngststoornissen in Nederland</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7 mljn mense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L  ≈ EU</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99" name="" descr=""/>
          <p:cNvPicPr/>
          <p:nvPr/>
        </p:nvPicPr>
        <p:blipFill>
          <a:blip r:embed="rId2"/>
          <a:stretch/>
        </p:blipFill>
        <p:spPr>
          <a:xfrm>
            <a:off x="826920" y="2708280"/>
            <a:ext cx="3527640" cy="1846080"/>
          </a:xfrm>
          <a:prstGeom prst="rect">
            <a:avLst/>
          </a:prstGeom>
          <a:ln w="0">
            <a:noFill/>
          </a:ln>
        </p:spPr>
      </p:pic>
      <p:pic>
        <p:nvPicPr>
          <p:cNvPr id="100" name="" descr=""/>
          <p:cNvPicPr/>
          <p:nvPr/>
        </p:nvPicPr>
        <p:blipFill>
          <a:blip r:embed="rId3"/>
          <a:stretch/>
        </p:blipFill>
        <p:spPr>
          <a:xfrm>
            <a:off x="826920" y="4464000"/>
            <a:ext cx="3529080" cy="1844640"/>
          </a:xfrm>
          <a:prstGeom prst="rect">
            <a:avLst/>
          </a:prstGeom>
          <a:ln w="0">
            <a:noFill/>
          </a:ln>
        </p:spPr>
      </p:pic>
      <p:pic>
        <p:nvPicPr>
          <p:cNvPr id="101" name="" descr=""/>
          <p:cNvPicPr/>
          <p:nvPr/>
        </p:nvPicPr>
        <p:blipFill>
          <a:blip r:embed="rId4"/>
          <a:stretch/>
        </p:blipFill>
        <p:spPr>
          <a:xfrm>
            <a:off x="4500720" y="1700280"/>
            <a:ext cx="4070160" cy="432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ngststoornissen in Nederland</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275 mljn</a:t>
            </a:r>
            <a:endParaRPr b="0" lang="en-US" sz="3000" spc="-1" strike="noStrike">
              <a:solidFill>
                <a:srgbClr val="000000"/>
              </a:solidFill>
              <a:latin typeface="Verdana"/>
            </a:endParaRPr>
          </a:p>
        </p:txBody>
      </p:sp>
      <p:pic>
        <p:nvPicPr>
          <p:cNvPr id="104" name="" descr=""/>
          <p:cNvPicPr/>
          <p:nvPr/>
        </p:nvPicPr>
        <p:blipFill>
          <a:blip r:embed="rId2"/>
          <a:stretch/>
        </p:blipFill>
        <p:spPr>
          <a:xfrm>
            <a:off x="1116000" y="2349360"/>
            <a:ext cx="5832360" cy="374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560" y="304920"/>
            <a:ext cx="82454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eterminanten Angststoornissen</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iet </a:t>
            </a:r>
            <a:r>
              <a:rPr b="0" lang="en-US" sz="3000" spc="-1" strike="noStrike">
                <a:solidFill>
                  <a:srgbClr val="000000"/>
                </a:solidFill>
                <a:latin typeface="Tahoma"/>
                <a:ea typeface="Tahoma"/>
              </a:rPr>
              <a:t>één specifieke oorzaak</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Tahoma"/>
              </a:rPr>
              <a:t>Categorieën:</a:t>
            </a:r>
            <a:endParaRPr b="0" lang="en-US" sz="30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Persoonsgebonden factoren</a:t>
            </a:r>
            <a:endParaRPr b="0" lang="en-US" sz="2600" spc="-1" strike="noStrike">
              <a:solidFill>
                <a:srgbClr val="000000"/>
              </a:solidFill>
              <a:latin typeface="Verdana"/>
            </a:endParaRPr>
          </a:p>
          <a:p>
            <a:pPr lvl="2" marL="1305000" indent="-39528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ea typeface="Tahoma"/>
              </a:rPr>
              <a:t>Erfelijk</a:t>
            </a:r>
            <a:endParaRPr b="0" lang="en-US" sz="2300" spc="-1" strike="noStrike">
              <a:solidFill>
                <a:srgbClr val="000000"/>
              </a:solidFill>
              <a:latin typeface="Verdana"/>
            </a:endParaRPr>
          </a:p>
          <a:p>
            <a:pPr lvl="2" marL="1305000" indent="-39528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ea typeface="Tahoma"/>
              </a:rPr>
              <a:t>Persoonlijkheidskenmerken</a:t>
            </a:r>
            <a:endParaRPr b="0" lang="en-US" sz="2300" spc="-1" strike="noStrike">
              <a:solidFill>
                <a:srgbClr val="000000"/>
              </a:solidFill>
              <a:latin typeface="Verdana"/>
            </a:endParaRPr>
          </a:p>
          <a:p>
            <a:pPr lvl="2" marL="1305000" indent="-39528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ea typeface="Tahoma"/>
              </a:rPr>
              <a:t>Gezondheidstoestand</a:t>
            </a:r>
            <a:endParaRPr b="0" lang="en-US" sz="23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Omgevingsgebonden factoren</a:t>
            </a:r>
            <a:endParaRPr b="0" lang="en-US" sz="2600" spc="-1" strike="noStrike">
              <a:solidFill>
                <a:srgbClr val="000000"/>
              </a:solidFill>
              <a:latin typeface="Verdana"/>
            </a:endParaRPr>
          </a:p>
          <a:p>
            <a:pPr lvl="2" marL="1305000" indent="-395280">
              <a:lnSpc>
                <a:spcPct val="100000"/>
              </a:lnSpc>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ea typeface="Tahoma"/>
              </a:rPr>
              <a:t>Sociale relaties</a:t>
            </a:r>
            <a:endParaRPr b="0" lang="en-US" sz="2300" spc="-1" strike="noStrike">
              <a:solidFill>
                <a:srgbClr val="000000"/>
              </a:solidFill>
              <a:latin typeface="Verdana"/>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ahoma"/>
              </a:rPr>
              <a:t>Levensgebeurtenissen</a:t>
            </a:r>
            <a:endParaRPr b="0" lang="en-US" sz="26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eventiebeleid</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erugdringen aantal patiënten</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tere herkenning angststoornissen</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er behandeling</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ubliekscampagn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rugdringen incidentie</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Zorgen voor socialer klimaat alleenstaanden</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eetmethoden</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p dit moment weinig bekend over de trend in prevalenti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ekomstige meetmethoden</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uisartsregistraties </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iodiek bevolkingsonderzoek</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igen visie en tips</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ndelijke bepaling prevalentie en incidentie</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pnemen in de NIVEL enqûete</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IVEL enqûete uitbreiden</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uisartsregistratie uitbreiden met DSM-IV cod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ronnen</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2"/>
              </a:rPr>
              <a:t>http://www.rivm.nl/vtv/object_class/kom_angst.htm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3"/>
              </a:rPr>
              <a:t>http://www.nivel.n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4"/>
              </a:rPr>
              <a:t>http://www.minvws.n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6699"/>
                </a:solidFill>
                <a:uFillTx/>
                <a:latin typeface="Verdana"/>
                <a:hlinkClick r:id="rId5"/>
              </a:rPr>
              <a:t>http://www.rivm.n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10:35:43Z</dcterms:created>
  <dc:creator>de Groot</dc:creator>
  <dc:description/>
  <dc:language>en-US</dc:language>
  <cp:lastModifiedBy>de Groot</cp:lastModifiedBy>
  <dcterms:modified xsi:type="dcterms:W3CDTF">2007-05-14T12:24:26Z</dcterms:modified>
  <cp:revision>15</cp:revision>
  <dc:subject/>
  <dc:title>Ziekte Angststoornissen</dc:title>
</cp:coreProperties>
</file>